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FAA-199E-471D-8F76-4C241E57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499-42DC-4198-8085-DC106CE3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ABD-C19E-40FF-B96E-0D014031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701-ACC2-45CF-8E70-09D8FD2E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98C7-B49E-4AAE-9DE3-B7E182AE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55F3-A2FB-4773-BDA7-B3B11A72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1C55-9E95-497E-B879-7FA78088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C6C7-3988-4D90-A79D-6C92187D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5261-6576-4149-BB9A-3B43C756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8CD-9BC3-4C6C-A65E-821755E4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962D-CB49-4EA3-830B-FED6A37B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11A-4D67-487F-8F73-052CBC4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05EB-1FCE-4261-94AF-08600104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8A26-6550-43FA-9865-3A230C1B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A1FF-EB1C-4D43-8D26-7E555F20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4C29-B759-42CE-8AA0-164A9A9E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B48E-0C9F-472A-ADA7-BD353864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5F1-2547-44F6-825B-3D9A9F5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E89-F54A-415B-9415-BB62826A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1AB-7A01-490C-8D76-1944A1D3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A51-EFA1-4A90-BEF4-A024DA2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999-59EC-4706-9973-C87C0AC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416-0779-4934-822A-6C74FF7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50C-F1CF-44AF-98A6-7B5E71A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AD00-5253-43BB-BAC5-2BEE18E6D5B9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B3C-FD97-43E1-AC75-94F17F3E85DC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tarting Poin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Where to Star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ing ti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k with administrator to set up a time for the implementation team to me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d out when the RtI team meet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system is in place for in-house transfers of PE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mmer sto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-system and out-of-system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xt Step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lk with administrator about the development of a standard protoc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one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so, 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 on core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of Action:  Looking at school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First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mplementation Team Meeting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mine lead facilit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responsi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do you see your school’s strength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do you see your school struggl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lp the team determine their starting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y Step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ing slides on the wiki for how teachers approach looking at existing 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up a time at beginning of year to be in each school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inform you of that time so that you can either give me a heads up or I can give you a heads u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Have Fun!!!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13120" y="1752480"/>
            <a:ext cx="4183200" cy="43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31:07Z</dcterms:created>
  <dc:creator>Chatham County Schools</dc:creator>
  <dc:description/>
  <dc:language>en-US</dc:language>
  <cp:lastModifiedBy>Chatham County Schools</cp:lastModifiedBy>
  <dcterms:modified xsi:type="dcterms:W3CDTF">2010-06-30T18:34:18Z</dcterms:modified>
  <cp:revision>1</cp:revision>
  <dc:subject/>
  <dc:title>Starting Point</dc:title>
</cp:coreProperties>
</file>